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E6E-3474-4E3E-9F7B-68CCEA89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C39-757A-470C-8FFD-10D1F63B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3B2CC-9E42-4640-ADA4-19291955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D3F66-EE88-4C40-AD72-B52600C6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F5933-7FD8-4321-97AE-0AEAFD2C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4BD39-B686-4501-9E9A-8A6458D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66E3F-46D9-434E-9F2B-BC358862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29270-574E-4F8E-931D-59CE67EE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655AD-AB43-4E85-8CD1-FF1F70A7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6530B-2F07-45A1-A8DE-35B06C98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25B2C-49B7-4935-8020-C22CD8FE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B6AB0-AD9F-4D6D-A080-5EC86371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8B9-BFA1-4108-94BC-DDBF5E6F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15C6E-A26F-47F1-B420-DDB650F1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E6F9A-D688-4DB3-94CA-FF7D238F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4CC82-4DCF-462A-95BF-806E57B0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AD82B-FB7B-4919-B298-59FAFA89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3B917-AA86-40B2-9D95-C2791850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BD505-3BE6-4DA5-8F7F-40A82BD4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3397D-B6B9-46BB-8A3A-62E7968A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9D411-B3A2-495F-805D-55DD80C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110F8-EB08-4BD6-A332-F7509ED8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4B6FB-7023-43B6-91A5-1A80727D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C7B-6113-408E-BB2F-673C0CB0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AB09F-46DD-4500-9281-7F38D5CA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7DD7-0871-499E-ACE7-8C016467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E2F2-1052-4346-AEBC-9E742329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5992-968C-4321-BC2A-A792F5D7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C3D5-A1C5-4A14-A6D0-A41854B6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8855-07A5-49DD-99D2-C2EF3C63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A1E8-0A86-452B-AC9B-6B67A4BE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F3DE-F5FF-4AD3-BD35-09D00EE4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A7D-5987-434A-A753-D90563DD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51A4-99DB-49C1-89E8-6B55226A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8EB6-2E62-481E-B5CB-3C63CE15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DC53-BCEB-453E-9AE9-D4C45A51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3238-B3F3-4198-B9AB-80232215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21D7-83A6-45F2-824D-0E76EAEF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A91B-80D8-4EC3-8E19-20BB84E4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ADF6A-20B9-433E-947C-348D6300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5DD9-8F1A-48FA-9B69-07C0570A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A871-A674-4585-AAC3-7F3616FD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C9DF-BC94-421A-B210-7658E34D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0DE-F969-497A-A173-32D65B1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2F2B-6713-49AD-A7D4-4F5A238E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1A60E-759B-4569-B4F4-1100D0AC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F4FDF-1DAC-4BE7-9713-D2846113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DBD2B-D42F-4CE4-92A2-F9DF503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6F30-EE0D-4363-B8A1-580D51A1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C220-E80E-4F09-856C-194E7E27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3CAD-FBE9-429A-B85A-3932068D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46298-01EE-4DDF-93A1-9BB8D022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CDF91-A61B-46C0-BF16-A5B37A9C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E5551-141C-4B0A-B4F8-C4CBBBAB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575-0BF6-4080-900D-53469783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8D4E8-0648-48E5-A659-B651D2AB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1C390C-1E6B-476A-8BAB-9ED760A2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2EFC1-3114-483B-9CBF-67F025E4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711BF-960C-4042-9CC2-8E339088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E8B55-D8F8-4142-876C-DE0E6E60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9FDC7-2A1D-4C32-904D-65ABA86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A9449-10E1-47E6-9C11-448D3237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F9F7D-1671-4C50-9731-7769BEA7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688FE2-DEA2-4922-B56C-AF37A780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DBFB8-DA4E-4805-B78B-215A480B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5B3-4594-40D7-8DE4-767C09B3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95D1D-21F7-4AFD-9BD1-5CDCFA88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33C7C-A2D5-4E2F-97EC-5C1CD058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0A784-8424-4A0F-89E7-055B1309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AB02C-1B8D-4C20-8BC8-F9B2F7B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F77A7-E8FC-4F96-A343-B3DE3C2D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40C4D-6A1D-4DDC-935F-641CD22D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E294B-5B2E-4556-9C16-A682F4B7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9B241-A8ED-4AD2-91E8-2100F3DA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2E56A-207C-4F2D-B08B-9367F172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5BEDD-4DFC-4FF8-8353-847012E2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427-7422-4DCC-9D03-86E9A45A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3A78-0779-4F87-8203-FEB44D61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23662-2A97-45DE-BBE0-0CFE23E3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81004-B25C-4AEF-87DC-40A2BEB2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0A5A6-44AD-43D6-8108-BFA21B6F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D094B-E7A4-44F6-B590-005F1F15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2F50B-7CF7-447B-A229-2FA92832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EB734-9BB2-4831-87FF-80252EA1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8FFD4-EEA1-4AF4-BE70-C79037D3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DC287-4F10-4198-B89D-4A56FB58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DDB77-32F6-40B5-9F38-DE83A771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E72-1C65-43B3-BABD-FE11F656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7DD6-046F-4DB1-8E97-F4A7A005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3096B-8B71-4F2E-A09B-D71A4095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94C12-F49D-4E8D-863E-72D07C74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17549-3E14-4B67-9F4A-19A886EA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AA35A-3547-4D40-A6C4-E7A8378B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DB993-1532-42D2-BAFA-6C551F9C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42998-7F17-4034-8D70-13BA41D4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C169F-4FBC-4360-99E8-7C1FE2DF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19C58-B62D-4F4C-BCA1-FA90F648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BD981-63D5-400E-B1F3-13784F5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23D-1641-492B-8BCA-013B59F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56EEF-8969-4498-9103-78C00986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58EAF-40BB-45B1-9C7B-149DF6B0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02CAE-CE30-4837-85D2-1CE8F7C7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6EE7C-3219-492C-9300-13128E4B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D4F0A-CE66-4E70-9006-69E663A8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46566-DC77-436D-B838-C23107B0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8B064-6A11-4065-8C22-01999B50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8275-95F9-4EF7-8586-C14205C6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97EDC-B99D-48BF-B6CF-E9D049D1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2913C-D1F0-4D8C-8181-6A95D235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ACB-9C99-4437-B0A2-9AE3FBA6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650BD-743A-4D96-90B4-04AF3F15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17603-7C7C-473D-904C-29B1A032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DBFDE-6D3E-4264-9942-B7A671E8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EBAC9-8B6B-4053-AD00-113FAB48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B7389-31DB-41BD-8345-4FFADF1A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05855-687E-4906-A199-331DE6B1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A8BB5-928D-4DCE-81AA-FC5B6A4F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65EBB-0851-4139-BA63-976C380B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87BDF-7A6A-4939-9771-ABC9012C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29375-F28C-41CA-8AE2-F4F5EF2C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1266-C1E3-4370-9789-FF587CAFFB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3C66-1505-4216-871E-72FE4B497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575D-65C4-4E2F-9C04-35D4CCA932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7E0F-9D85-4F47-9430-FA42DA1CD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F0BE-1C83-4F60-B548-D045B4E15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F23B-1E24-4DEE-989E-C4200975B4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3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BB49-0E44-4F7A-A832-FE92546D2B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8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0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069D-144F-40F9-B0D5-65E236D09DD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6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770A-8ECF-43BC-B473-F525099A99D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61C0-91E1-4FFB-9B10-66D2B31B5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03280" y="573408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826920" y="836640"/>
            <a:ext cx="7274160" cy="33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Қазақтың ұлттық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йынд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1" i="1" lang="kk-KZ" sz="7200" spc="-1" strike="noStrike">
                <a:solidFill>
                  <a:srgbClr val="f7d47d"/>
                </a:solidFill>
                <a:latin typeface="Arial"/>
              </a:rPr>
              <a:t>Омпы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256360" cy="566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i="1" lang="kk-KZ" sz="6600" spc="-1" strike="noStrike">
                <a:solidFill>
                  <a:srgbClr val="ffffff"/>
                </a:solidFill>
                <a:latin typeface="Tahoma"/>
              </a:rPr>
              <a:t>Атбақыл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3743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116000" y="1390680"/>
            <a:ext cx="71280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4427640" y="3532320"/>
            <a:ext cx="4716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Сөзді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й сүйегі - положение альчик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Үйіру - сбрасыва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Ұпай - очк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Кезек - очеред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Тимей қалса - если не попад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с–уыс - пригорошн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Қозғап кетсе  - если сдвин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асқа асыққа соғылса - если заденет другой альчи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aeaea"/>
                </a:solidFill>
                <a:latin typeface="Verdana"/>
              </a:rPr>
              <a:t>Бір-біріне тимесе - если не попадет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Кестемен жұмыс істейді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1645920"/>
                <a:gridCol w="1645920"/>
                <a:gridCol w="1645560"/>
                <a:gridCol w="1645920"/>
                <a:gridCol w="1645920"/>
              </a:tblGrid>
              <a:tr h="45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алалар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ан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оялған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сықтың түр түрінен айтылуы</a:t>
                      </a:r>
                      <a:endParaRPr b="0" lang="en-US" sz="12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йынның бұзылуы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68360" y="2205000"/>
            <a:ext cx="8207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11280" y="256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4-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6836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0 -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24360" y="25574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Хан - 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5640" y="2205000"/>
            <a:ext cx="15843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Ш</a:t>
            </a: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ік шігімен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үк бүгі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Тәйке тәйке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Алшы алшыме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164360" y="2349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164360" y="227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020000" y="2276640"/>
            <a:ext cx="1655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қа соғылс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ір біріне тиме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2f1311"/>
                </a:solidFill>
                <a:latin typeface="Arial"/>
              </a:rPr>
              <a:t>Басқа асықты қозғап кетс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Arial"/>
              </a:rPr>
              <a:t>Үй тапсырма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2800" spc="-1" strike="noStrike">
                <a:solidFill>
                  <a:srgbClr val="eaeaea"/>
                </a:solidFill>
                <a:latin typeface="Courier New"/>
              </a:rPr>
              <a:t>90 бетте мәтінді оқып, әңгімеле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9:33:07Z</dcterms:created>
  <dc:creator>Admin</dc:creator>
  <dc:description/>
  <dc:language>en-US</dc:language>
  <cp:lastModifiedBy>13</cp:lastModifiedBy>
  <dcterms:modified xsi:type="dcterms:W3CDTF">2009-02-05T08:47:53Z</dcterms:modified>
  <cp:revision>6</cp:revision>
  <dc:subject/>
  <dc:title>Қазақ ұлттық  ойындары.</dc:title>
</cp:coreProperties>
</file>